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067-1346-4740-A1DF-31B4DC88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1276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01D-23A0-4994-A247-C0EB3B5F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527-922F-4CF2-897B-6A53FA5D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B95-6BED-48CB-9AE4-39950467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877E-5508-4224-8068-5D7F8F06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CE1-B818-4D67-8CA5-0C240BB5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29B-B710-4A93-9937-89EA5BD1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DE4-7E2D-4881-8BB5-1E111E1B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D0E-C8CB-4874-AE57-1BD1FF0B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872-6CCC-4E3B-B8CB-59CB16BE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FEE-8FDA-40B1-9BF2-6E3A73F8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C40-BC5E-42A7-8080-5B87AB6C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26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726"/>
              </a:spcBef>
              <a:buClr>
                <a:srgbClr val="ff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726"/>
              </a:spcBef>
              <a:buClr>
                <a:srgbClr val="008ae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4C10354-8728-42C6-BDE0-90947F4C0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preadsheets.google.com/ccc?key=pINNryLt_vyDiPyHj11WiDg&amp;hl=en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linical Observations Interoperability (COI):</a:t>
            </a:r>
            <a:br>
              <a:rPr sz="3000"/>
            </a:b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How can Semantic Web Technologies Help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1240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pul Kashya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vkashyap1@partners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edical Informatician, Clinical Informatics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 Healthcar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http://esw.w3.org/topic/HCLS/ClinicalObservationsInteroperabilit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nical Observations Interoperability Sess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SIG Face to F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8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bridge,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nowledgments: Members of the HCLSIG/COI Task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Shareable Open Source Models of Clinical Data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7480" y="2209680"/>
            <a:ext cx="219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7480" y="3048120"/>
            <a:ext cx="219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933840" y="380376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7480" y="4572000"/>
            <a:ext cx="2242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6480" y="1860480"/>
            <a:ext cx="121536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o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15200" y="198612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282420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7982280" y="358020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15560" y="4348080"/>
            <a:ext cx="167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666880" y="3060720"/>
            <a:ext cx="1676520" cy="824040"/>
            <a:chOff x="2666880" y="3060720"/>
            <a:chExt cx="1676520" cy="824040"/>
          </a:xfrm>
        </p:grpSpPr>
        <p:sp>
          <p:nvSpPr>
            <p:cNvPr id="296" name=""/>
            <p:cNvSpPr/>
            <p:nvPr/>
          </p:nvSpPr>
          <p:spPr>
            <a:xfrm>
              <a:off x="2666880" y="3276720"/>
              <a:ext cx="1676520" cy="380880"/>
            </a:xfrm>
            <a:prstGeom prst="leftRightArrow">
              <a:avLst>
                <a:gd name="adj1" fmla="val 50000"/>
                <a:gd name="adj2" fmla="val 87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74320" y="3060720"/>
              <a:ext cx="125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715000" y="3213000"/>
            <a:ext cx="1676520" cy="824040"/>
            <a:chOff x="5715000" y="3213000"/>
            <a:chExt cx="1676520" cy="824040"/>
          </a:xfrm>
        </p:grpSpPr>
        <p:sp>
          <p:nvSpPr>
            <p:cNvPr id="299" name=""/>
            <p:cNvSpPr/>
            <p:nvPr/>
          </p:nvSpPr>
          <p:spPr>
            <a:xfrm>
              <a:off x="5715000" y="3429000"/>
              <a:ext cx="1676520" cy="380880"/>
            </a:xfrm>
            <a:prstGeom prst="leftRightArrow">
              <a:avLst>
                <a:gd name="adj1" fmla="val 50000"/>
                <a:gd name="adj2" fmla="val 87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22440" y="3213000"/>
              <a:ext cx="125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208240" y="6095880"/>
            <a:ext cx="418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Focus of Talk by Tom On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Re-use and Alignment of Independently developed Industry Standard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7880" y="1295280"/>
            <a:ext cx="372420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C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ystolicBloodPressure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ubClass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key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“SnomedCodeForSystolic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magnitude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float[&gt;= 0.0, &lt;= 220.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units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HL7:PQ: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30880" y="1219320"/>
            <a:ext cx="312516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SDT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ystolicBloodPressure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VS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TESTCD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“SYS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VSORRESU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3200400"/>
            <a:ext cx="82296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Alignment/Mapping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CM:SystolicBloodPressureMeasurement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DTM:VSTEST 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TESTCD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“NCITCodeForSYS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CM:key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Propert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SDTM:VSTEST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CM:units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Propert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ORR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CM:magnitude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Propert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SOR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DTM:SYSBP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ameA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“NCITCodeForSYS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nomedCodeForSystolicBP”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ameA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“NCITCodeForSYS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HL7:PQ:mmHg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ameA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ORRESU: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2863800"/>
            <a:ext cx="152388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028840" y="2787480"/>
            <a:ext cx="1523880" cy="48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3276720"/>
            <a:ext cx="830592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Enabling Clinical Observations Interoperability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8880" y="2604960"/>
            <a:ext cx="1024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d = URI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1760" y="1538280"/>
            <a:ext cx="773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. X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0560" y="19954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66280" y="2604960"/>
            <a:ext cx="124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2895480"/>
            <a:ext cx="1067040" cy="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0160" y="252900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447920"/>
            <a:ext cx="42674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00200" y="463392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05600" y="152388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68560" y="207180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0320" y="3505320"/>
            <a:ext cx="48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12320" y="3962520"/>
            <a:ext cx="2462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nomedCodeForSystolic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46000" y="4114800"/>
            <a:ext cx="743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38080" y="31240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142640" y="31240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79640" y="3414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2960" y="32767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45880" y="36576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88360" y="342900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04920" y="2604960"/>
            <a:ext cx="1024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d = URI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07440" y="1538280"/>
            <a:ext cx="773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. X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06600" y="19954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61960" y="2604960"/>
            <a:ext cx="124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91320" y="2895480"/>
            <a:ext cx="1066680" cy="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6200" y="252900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1447920"/>
            <a:ext cx="426708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98400" y="463392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nical Trial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01280" y="152388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9152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464240" y="207180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06360" y="3505320"/>
            <a:ext cx="48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06560" y="3962520"/>
            <a:ext cx="1985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CITCodeForSYS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42040" y="4114800"/>
            <a:ext cx="743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334120" y="3124080"/>
            <a:ext cx="19047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38880" y="3124080"/>
            <a:ext cx="83844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638320" y="31240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75680" y="3414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11520" y="327672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OR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3720" y="365760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ORRE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84760" y="342900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TEST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3200400"/>
            <a:ext cx="4343400" cy="152280"/>
          </a:xfrm>
          <a:custGeom>
            <a:avLst/>
            <a:gdLst/>
            <a:ahLst/>
            <a:rect l="l" t="t" r="r" b="b"/>
            <a:pathLst>
              <a:path w="2592" h="312">
                <a:moveTo>
                  <a:pt x="0" y="312"/>
                </a:moveTo>
                <a:cubicBezTo>
                  <a:pt x="744" y="180"/>
                  <a:pt x="1488" y="48"/>
                  <a:pt x="1920" y="24"/>
                </a:cubicBezTo>
                <a:cubicBezTo>
                  <a:pt x="2352" y="0"/>
                  <a:pt x="2472" y="84"/>
                  <a:pt x="2592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3657600"/>
            <a:ext cx="3962520" cy="533520"/>
          </a:xfrm>
          <a:custGeom>
            <a:avLst/>
            <a:gdLst/>
            <a:ahLst/>
            <a:rect l="l" t="t" r="r" b="b"/>
            <a:pathLst>
              <a:path w="2496" h="336">
                <a:moveTo>
                  <a:pt x="0" y="288"/>
                </a:moveTo>
                <a:cubicBezTo>
                  <a:pt x="92" y="188"/>
                  <a:pt x="184" y="88"/>
                  <a:pt x="480" y="48"/>
                </a:cubicBezTo>
                <a:cubicBezTo>
                  <a:pt x="776" y="8"/>
                  <a:pt x="1440" y="0"/>
                  <a:pt x="1776" y="48"/>
                </a:cubicBezTo>
                <a:cubicBezTo>
                  <a:pt x="2112" y="96"/>
                  <a:pt x="2304" y="216"/>
                  <a:pt x="2496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4267080"/>
            <a:ext cx="3644640" cy="457200"/>
          </a:xfrm>
          <a:custGeom>
            <a:avLst/>
            <a:gdLst/>
            <a:ahLst/>
            <a:rect l="l" t="t" r="r" b="b"/>
            <a:pathLst>
              <a:path w="2296" h="288">
                <a:moveTo>
                  <a:pt x="0" y="0"/>
                </a:moveTo>
                <a:cubicBezTo>
                  <a:pt x="772" y="144"/>
                  <a:pt x="1544" y="288"/>
                  <a:pt x="1920" y="288"/>
                </a:cubicBezTo>
                <a:cubicBezTo>
                  <a:pt x="2296" y="288"/>
                  <a:pt x="2276" y="14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Enabling Clinical Observations Interoperability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8880" y="2604960"/>
            <a:ext cx="1024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d = URI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1760" y="1538280"/>
            <a:ext cx="773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. X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560" y="19954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763080" y="4164120"/>
            <a:ext cx="124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95280" y="243828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0160" y="252900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02400" y="308304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92640" y="340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65720" y="363060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67920" y="5486400"/>
            <a:ext cx="48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4140000" y="468324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71240" y="2224080"/>
            <a:ext cx="124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0920" y="114300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00800" y="14619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473880" y="169056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53920" y="3429000"/>
            <a:ext cx="48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248160" y="274284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84960" y="3033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2057400"/>
            <a:ext cx="11430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82280" y="1143000"/>
            <a:ext cx="83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Hg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51720" y="1143000"/>
            <a:ext cx="1924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CITCodeForSYSBP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144792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59056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352680" y="228600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95480" y="2438280"/>
            <a:ext cx="83844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774040" y="298296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732480" y="48769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Merged Patient Data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3640" y="1311120"/>
            <a:ext cx="1843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4880" y="1281240"/>
            <a:ext cx="510480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http:URIForPatie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df:type DCM: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name “Mr. 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systolicBP DCM:systolicBP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systolicBP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df:type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units 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key   “SnomedCodeForSystolic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df:_1 _:SystolicBPMeasuremen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df:_2 _:SystolicBPMeasuremen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SystolicBPMeasurement1 DCM:recordingTime 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SystolicBPMeasurement1 DCM:magnitude 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SystolicBPMeasurement2 DCM:recordingTime 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SystolicBPMeasurement2 DCM:magnitude 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Multiple ways of saying the same thing!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73760" y="1295280"/>
            <a:ext cx="17352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 Recor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= Mr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 Time = 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Weight = 7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WeightType = “Dr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31360" y="1295280"/>
            <a:ext cx="17352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 Recor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= Mr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 Time = 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DryWeight = 7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89120" y="4165560"/>
            <a:ext cx="48747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Assert the following Mapp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ryWeight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Weight 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type value “Dr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The OWL Ontology Engine will infer the r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824480" y="3024360"/>
            <a:ext cx="47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these two weight measurements compar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18288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Precise Protocol Specification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phylactic Irradiation to the Contralateral Breast for BRCA Mutation Carriers Undergoing Treatment for Breast Canc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clinicaltrials.gov/ct/show/NCT00496288?order=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ges Eligible for Study:  30 Years   -   90 Years, Genders Eligible for Study:  Femal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nclusion Criteri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emale patient diagnosed with stage I-III breast cancer (AJCC 6), undergoing breast irradiation as part of her adjuvant therap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atient must be a carrier of a deleterious mutation in BRCA 1/2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xclusion Criteri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etastatic breast cancer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evious irradiation of the breast or chest wall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egnanc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atients with active connective tissue diseases are excluded due to the potential risk of significant radiotherapy toxicit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Precise Protocol Specification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Ag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oat[&gt;=30, &lt;=6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Gender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Fema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Diagnosis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geI-IIIBreastCan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Therapy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eastIr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Muta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mutationTyp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leterious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tationGen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CA1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asDiagnosis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reastCancer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tha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cerTyp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stati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asTherapy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rradiation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Loca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hest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eastWall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asCondi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gna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asDiseas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isease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Loca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nectiveTiss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tiv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Times New Roman"/>
              </a:rPr>
              <a:t>Focus of Next Talk by Chintan Pat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Approximate Matching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bsumption reasoning helps match patients against BreastIrradiationTherapy and it’s subclasses as opposed to a String match with “BreastIrradiationTherapy”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ystematic query weakening by dropping logical conditions can be used to identify more patients who can later be filtered based on further testing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ny ways of stating the same thing”: Infer eligibility based on patient data that doesn’t explicitly assert data satisfying a logical condi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Identify Patients in the absence of explicit data about a clinical condition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74480" y="1295280"/>
            <a:ext cx="18115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 Recor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= Mr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ease = Hema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28480" y="1295280"/>
            <a:ext cx="2503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 Recor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= Mr.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pereosinophily =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sytosis =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ood Lymphocytes = ATyp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89120" y="4165560"/>
            <a:ext cx="394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00"/>
                </a:solidFill>
                <a:uFillTx/>
                <a:latin typeface="Times New Roman"/>
              </a:rPr>
              <a:t>Assert the following Mapp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atientWithHematologyDis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hypereosinophily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float[&gt;1.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lymphosytosis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float [&gt; 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bloodLymphocytes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ATyp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The OWL Ontology Engine will infer the r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24120" y="3024360"/>
            <a:ext cx="53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of these two patients have Hematology Dis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05320" y="18288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lthcare and Life Sciences (HCLS): A Tax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S Ecosystem: Current and Goal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ses and Function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le of Semantic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Exchange and 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able Protocol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Retrie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ing Attrac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ritical Need to Align Data, Information and Knowledge across the HCLS Eco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nical Observations Interoperability is a critical enabl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eed for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sharable web based specifications and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itial Analysis seem to suggest the feasibility and applicability of Semantic Web technologi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oming Attractions!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atient Recruitment Use Case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chel Rich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pen Source Detailed Clinical Models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 O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mo: Semantic DB Syst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mezie Ogbu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mo: SHER Syst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tan Pa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Next Step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re is a critical need to develop a collaborative framework of various stakeholders such as healthcare providers, pharmaceuticals and IT vendors to address this important proble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oal: To build consensus and seek participation (time, resources, money!) of these stakeholders to develop a POC that demonstrates feasibility and validates the value proposi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rainstorming Session: 4:30pm – 5:30pm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Healthcare and Life Sciences: A Taxonom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8520" y="1788840"/>
            <a:ext cx="8122320" cy="4370040"/>
            <a:chOff x="308520" y="1788840"/>
            <a:chExt cx="8122320" cy="4370040"/>
          </a:xfrm>
        </p:grpSpPr>
        <p:sp>
          <p:nvSpPr>
            <p:cNvPr id="47" name=""/>
            <p:cNvSpPr/>
            <p:nvPr/>
          </p:nvSpPr>
          <p:spPr>
            <a:xfrm>
              <a:off x="4876920" y="2438280"/>
              <a:ext cx="1676160" cy="16002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6520" y="205740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76520" y="5257800"/>
              <a:ext cx="47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84360" y="52182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03080" y="533412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6280" y="541008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act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6760" y="4724280"/>
              <a:ext cx="91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n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8520" y="2286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434960" y="1788840"/>
              <a:ext cx="6274080" cy="4370040"/>
              <a:chOff x="1434960" y="1788840"/>
              <a:chExt cx="6274080" cy="4370040"/>
            </a:xfrm>
          </p:grpSpPr>
          <p:sp>
            <p:nvSpPr>
              <p:cNvPr id="56" name="_s559118"/>
              <p:cNvSpPr/>
              <p:nvPr/>
            </p:nvSpPr>
            <p:spPr>
              <a:xfrm>
                <a:off x="3724200" y="2382840"/>
                <a:ext cx="1697040" cy="1697040"/>
              </a:xfrm>
              <a:prstGeom prst="ellipse">
                <a:avLst/>
              </a:prstGeom>
              <a:solidFill>
                <a:srgbClr val="0000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_s559119"/>
              <p:cNvSpPr/>
              <p:nvPr/>
            </p:nvSpPr>
            <p:spPr>
              <a:xfrm>
                <a:off x="3724200" y="1788840"/>
                <a:ext cx="169704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iomedical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_s559120"/>
              <p:cNvSpPr/>
              <p:nvPr/>
            </p:nvSpPr>
            <p:spPr>
              <a:xfrm>
                <a:off x="4282920" y="3350880"/>
                <a:ext cx="1697040" cy="169704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_s559121"/>
              <p:cNvSpPr/>
              <p:nvPr/>
            </p:nvSpPr>
            <p:spPr>
              <a:xfrm>
                <a:off x="6012000" y="4706640"/>
                <a:ext cx="169704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linic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act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_s559122"/>
              <p:cNvSpPr/>
              <p:nvPr/>
            </p:nvSpPr>
            <p:spPr>
              <a:xfrm>
                <a:off x="3165480" y="3350880"/>
                <a:ext cx="1697040" cy="1697040"/>
              </a:xfrm>
              <a:prstGeom prst="ellipse">
                <a:avLst/>
              </a:prstGeom>
              <a:solidFill>
                <a:srgbClr val="7777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_s559123"/>
              <p:cNvSpPr/>
              <p:nvPr/>
            </p:nvSpPr>
            <p:spPr>
              <a:xfrm>
                <a:off x="1434960" y="4706640"/>
                <a:ext cx="169704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linic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61080" y="5638680"/>
                <a:ext cx="1280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rsonaliz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edic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902960" y="2514600"/>
              <a:ext cx="129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la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c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2666880" y="297144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0" y="38098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06840" y="2220840"/>
              <a:ext cx="131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Heal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31800" y="304812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181480" y="3200400"/>
              <a:ext cx="1828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676520" y="2438280"/>
            <a:ext cx="16761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5638680"/>
            <a:ext cx="19051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HCLS Ecosystem: Current St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4311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696080" y="5302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10720" y="3244680"/>
            <a:ext cx="1581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3352680" y="4386600"/>
            <a:ext cx="21924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linic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rganizations (C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7080" y="3854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800600" y="2558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35120" y="240660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0680" y="2482920"/>
            <a:ext cx="17960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ational Instit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f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3280" y="370188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4997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5560" y="4448160"/>
            <a:ext cx="18313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versi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cademic Med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nters (AM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092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3092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60" y="1263600"/>
            <a:ext cx="54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acterized by silos with uncoordin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ly chains leading to inefficiencies in the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9440" y="3092400"/>
            <a:ext cx="10814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nte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010280" y="3930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934320" y="2482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37240" y="490536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0640" y="492120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8520" y="3930480"/>
            <a:ext cx="81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y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20960" y="598788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11840" y="1873080"/>
            <a:ext cx="9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16000" y="583560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73200" y="217800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1797120"/>
            <a:ext cx="236232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2711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1949400"/>
            <a:ext cx="23619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2254320"/>
            <a:ext cx="274320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560" y="5530680"/>
            <a:ext cx="21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iomedic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5280" y="6369120"/>
            <a:ext cx="23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Trials/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51640" y="644508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Times New Roman"/>
              </a:rPr>
              <a:t>HCLS Ecosystem: Goal State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4760" y="3292560"/>
            <a:ext cx="1582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,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3673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10200" y="435924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23240" y="435924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8840" y="5425920"/>
            <a:ext cx="81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y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943600" y="4739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9720" y="1311120"/>
            <a:ext cx="619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9000" y="4343400"/>
            <a:ext cx="732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511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3520" y="2530440"/>
            <a:ext cx="1581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657600" y="313956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1463760"/>
            <a:ext cx="1752840" cy="2819160"/>
          </a:xfrm>
          <a:custGeom>
            <a:avLst/>
            <a:gdLst/>
            <a:ahLst/>
            <a:rect l="l" t="t" r="r" b="b"/>
            <a:pathLst>
              <a:path w="1104" h="1776">
                <a:moveTo>
                  <a:pt x="0" y="1776"/>
                </a:moveTo>
                <a:cubicBezTo>
                  <a:pt x="348" y="1680"/>
                  <a:pt x="696" y="1584"/>
                  <a:pt x="864" y="1344"/>
                </a:cubicBezTo>
                <a:cubicBezTo>
                  <a:pt x="1032" y="1104"/>
                  <a:pt x="1104" y="560"/>
                  <a:pt x="1008" y="336"/>
                </a:cubicBezTo>
                <a:cubicBezTo>
                  <a:pt x="912" y="112"/>
                  <a:pt x="600" y="5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16160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20920" y="131112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46376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62520" y="161604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616040"/>
            <a:ext cx="16761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0040" y="1235160"/>
            <a:ext cx="1183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I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Resear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5400" y="2606760"/>
            <a:ext cx="128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versi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M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828800" y="18446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971440" y="146376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9113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3139920"/>
            <a:ext cx="1371600" cy="1219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733920" y="344484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1692360"/>
            <a:ext cx="182880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216240"/>
            <a:ext cx="1067040" cy="1219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00440" y="55627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4880" y="53942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FDA, 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200" y="5791320"/>
            <a:ext cx="6492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Clinical Observations Interoperability will be 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Critical Enabler to realize this Vis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Use Cases and Functional Requirement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4065" r="26875" b="46875"/>
          <a:stretch/>
        </p:blipFill>
        <p:spPr>
          <a:xfrm>
            <a:off x="0" y="1066680"/>
            <a:ext cx="8915400" cy="3810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2920" y="5105520"/>
            <a:ext cx="882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identifies the Use Cases, Systems and Functional Requirement under considera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I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e Functional Requirements Specification developed  by EHRVA/HIM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ailable at </a:t>
            </a:r>
            <a:r>
              <a:rPr b="0" lang="en-US" sz="18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http://spreadsheets.google.com/ccc?key=pINNryLt_vyDiPyHj11WiDg&amp;hl=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Google Spread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Use Case: Patient Screening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3120" y="685800"/>
            <a:ext cx="7543800" cy="5646600"/>
            <a:chOff x="303120" y="685800"/>
            <a:chExt cx="7543800" cy="5646600"/>
          </a:xfrm>
        </p:grpSpPr>
        <p:sp>
          <p:nvSpPr>
            <p:cNvPr id="138" name=""/>
            <p:cNvSpPr/>
            <p:nvPr/>
          </p:nvSpPr>
          <p:spPr>
            <a:xfrm>
              <a:off x="303120" y="685800"/>
              <a:ext cx="7543800" cy="564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824280" y="1251000"/>
              <a:ext cx="1508040" cy="627120"/>
              <a:chOff x="3824280" y="1251000"/>
              <a:chExt cx="1508040" cy="627120"/>
            </a:xfrm>
          </p:grpSpPr>
          <p:sp>
            <p:nvSpPr>
              <p:cNvPr id="140" name=""/>
              <p:cNvSpPr/>
              <p:nvPr/>
            </p:nvSpPr>
            <p:spPr>
              <a:xfrm>
                <a:off x="3824280" y="1251000"/>
                <a:ext cx="1508040" cy="6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24280" y="1251000"/>
                <a:ext cx="1508040" cy="627120"/>
              </a:xfrm>
              <a:prstGeom prst="rect">
                <a:avLst/>
              </a:pr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3908160" y="1305000"/>
              <a:ext cx="34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09960" y="1413000"/>
              <a:ext cx="351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85080" y="130500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87960" y="1413000"/>
              <a:ext cx="412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23920" y="130500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27520" y="1413000"/>
              <a:ext cx="378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03840" y="1433520"/>
              <a:ext cx="79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ligibility Criteria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5040" y="1555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25160" y="155556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nclu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5040" y="1681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24080" y="1681200"/>
              <a:ext cx="42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clu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881440" y="2379600"/>
              <a:ext cx="3646440" cy="1138320"/>
              <a:chOff x="2881440" y="2379600"/>
              <a:chExt cx="3646440" cy="113832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2881440" y="2379600"/>
                <a:ext cx="3646440" cy="1138320"/>
                <a:chOff x="2881440" y="2379600"/>
                <a:chExt cx="3646440" cy="11383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881440" y="2379600"/>
                  <a:ext cx="3646440" cy="113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81440" y="2379600"/>
                  <a:ext cx="3646440" cy="1138320"/>
                </a:xfrm>
                <a:prstGeom prst="rect">
                  <a:avLst/>
                </a:prstGeom>
                <a:noFill/>
                <a:ln cap="rnd"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4249800" y="2587680"/>
                <a:ext cx="892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EMR DAT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13280" y="2827440"/>
                <a:ext cx="879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097880" y="2886120"/>
                <a:ext cx="374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56120" y="2827440"/>
                <a:ext cx="1068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38920" y="288612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cedu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3384720" y="3141720"/>
                <a:ext cx="1193760" cy="271440"/>
                <a:chOff x="3384720" y="3141720"/>
                <a:chExt cx="1193760" cy="2714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384720" y="3141720"/>
                  <a:ext cx="119376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84720" y="3141720"/>
                  <a:ext cx="1193760" cy="271440"/>
                </a:xfrm>
                <a:prstGeom prst="rect">
                  <a:avLst/>
                </a:prstGeom>
                <a:noFill/>
                <a:ln cap="rnd"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3466800" y="3200400"/>
                <a:ext cx="723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agno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195720" y="2513160"/>
                <a:ext cx="879480" cy="27288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03760" y="3141720"/>
                <a:ext cx="132084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87640" y="3200400"/>
                <a:ext cx="985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mographic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86520" y="2827440"/>
                <a:ext cx="252360" cy="34740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57960" y="2513160"/>
                <a:ext cx="880920" cy="27288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06720" y="2827440"/>
                <a:ext cx="879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870120" y="4889520"/>
              <a:ext cx="314280" cy="376200"/>
            </a:xfrm>
            <a:custGeom>
              <a:avLst/>
              <a:gdLst/>
              <a:ahLst/>
              <a:rect l="l" t="t" r="r" b="b"/>
              <a:pathLst>
                <a:path w="198" h="237">
                  <a:moveTo>
                    <a:pt x="0" y="178"/>
                  </a:moveTo>
                  <a:lnTo>
                    <a:pt x="49" y="178"/>
                  </a:lnTo>
                  <a:lnTo>
                    <a:pt x="49" y="0"/>
                  </a:lnTo>
                  <a:lnTo>
                    <a:pt x="148" y="0"/>
                  </a:lnTo>
                  <a:lnTo>
                    <a:pt x="148" y="178"/>
                  </a:lnTo>
                  <a:lnTo>
                    <a:pt x="198" y="178"/>
                  </a:lnTo>
                  <a:lnTo>
                    <a:pt x="99" y="237"/>
                  </a:lnTo>
                  <a:lnTo>
                    <a:pt x="0" y="17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03440" y="4137120"/>
              <a:ext cx="5154840" cy="1952640"/>
              <a:chOff x="2503440" y="4137120"/>
              <a:chExt cx="5154840" cy="1952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421400" y="55594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76200" y="556092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42360" y="55609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10760" y="55609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163400" y="556092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63400" y="568656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71400" y="5560920"/>
                <a:ext cx="17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03440" y="551484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83360" y="556092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3333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42140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67692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4344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1148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6376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7176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503440" y="5840280"/>
                <a:ext cx="792360" cy="249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8120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675840" y="5235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675840" y="491184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76920" y="41832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#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7476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7692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7692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7692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421400" y="52322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421400" y="49068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421400" y="41814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42720" y="523548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910760" y="5235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163400" y="523548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163400" y="536112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371760" y="5235480"/>
                <a:ext cx="159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03440" y="518940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83360" y="523548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222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42360" y="491184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43440" y="4183200"/>
                <a:ext cx="628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Criteria #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4128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4344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4344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4344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910760" y="4911840"/>
                <a:ext cx="25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63400" y="491184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63400" y="503712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71400" y="4911840"/>
                <a:ext cx="17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503440" y="486396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83360" y="491184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111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11840" y="41832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#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0932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1184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1184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91184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63400" y="4183200"/>
                <a:ext cx="44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#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62680" y="43084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 / Total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63040" y="4433760"/>
                <a:ext cx="46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i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63760" y="455940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70680" y="4183200"/>
                <a:ext cx="50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otentially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71040" y="430848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ligible fo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371400" y="443376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03440" y="4137120"/>
                <a:ext cx="792360" cy="726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80480" y="4183200"/>
                <a:ext cx="59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tient MR #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03440" y="4137120"/>
                <a:ext cx="5154840" cy="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03440" y="486396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03440" y="518940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03440" y="6089760"/>
                <a:ext cx="5154840" cy="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03440" y="4137120"/>
                <a:ext cx="0" cy="195264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9580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08924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3408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66748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658280" y="4137120"/>
                <a:ext cx="0" cy="195264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60096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03440" y="551484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4364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03440" y="584028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09480" y="928800"/>
              <a:ext cx="2027520" cy="633240"/>
            </a:xfrm>
            <a:custGeom>
              <a:avLst/>
              <a:gdLst/>
              <a:ahLst/>
              <a:rect l="l" t="t" r="r" b="b"/>
              <a:pathLst>
                <a:path w="1277" h="399">
                  <a:moveTo>
                    <a:pt x="1272" y="10"/>
                  </a:moveTo>
                  <a:lnTo>
                    <a:pt x="1193" y="10"/>
                  </a:lnTo>
                  <a:lnTo>
                    <a:pt x="1193" y="0"/>
                  </a:lnTo>
                  <a:lnTo>
                    <a:pt x="1272" y="0"/>
                  </a:lnTo>
                  <a:lnTo>
                    <a:pt x="1272" y="10"/>
                  </a:lnTo>
                  <a:close/>
                  <a:moveTo>
                    <a:pt x="1164" y="10"/>
                  </a:moveTo>
                  <a:lnTo>
                    <a:pt x="1084" y="10"/>
                  </a:lnTo>
                  <a:lnTo>
                    <a:pt x="1084" y="0"/>
                  </a:lnTo>
                  <a:lnTo>
                    <a:pt x="1164" y="0"/>
                  </a:lnTo>
                  <a:lnTo>
                    <a:pt x="1164" y="10"/>
                  </a:lnTo>
                  <a:close/>
                  <a:moveTo>
                    <a:pt x="1055" y="10"/>
                  </a:moveTo>
                  <a:lnTo>
                    <a:pt x="975" y="10"/>
                  </a:lnTo>
                  <a:lnTo>
                    <a:pt x="975" y="0"/>
                  </a:lnTo>
                  <a:lnTo>
                    <a:pt x="1055" y="0"/>
                  </a:lnTo>
                  <a:lnTo>
                    <a:pt x="1055" y="10"/>
                  </a:lnTo>
                  <a:close/>
                  <a:moveTo>
                    <a:pt x="946" y="10"/>
                  </a:moveTo>
                  <a:lnTo>
                    <a:pt x="867" y="10"/>
                  </a:lnTo>
                  <a:lnTo>
                    <a:pt x="867" y="0"/>
                  </a:lnTo>
                  <a:lnTo>
                    <a:pt x="946" y="0"/>
                  </a:lnTo>
                  <a:lnTo>
                    <a:pt x="946" y="10"/>
                  </a:lnTo>
                  <a:close/>
                  <a:moveTo>
                    <a:pt x="837" y="10"/>
                  </a:moveTo>
                  <a:lnTo>
                    <a:pt x="758" y="10"/>
                  </a:lnTo>
                  <a:lnTo>
                    <a:pt x="758" y="0"/>
                  </a:lnTo>
                  <a:lnTo>
                    <a:pt x="837" y="0"/>
                  </a:lnTo>
                  <a:lnTo>
                    <a:pt x="837" y="10"/>
                  </a:lnTo>
                  <a:close/>
                  <a:moveTo>
                    <a:pt x="728" y="10"/>
                  </a:moveTo>
                  <a:lnTo>
                    <a:pt x="649" y="10"/>
                  </a:lnTo>
                  <a:lnTo>
                    <a:pt x="649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40" y="10"/>
                  </a:lnTo>
                  <a:lnTo>
                    <a:pt x="540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5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5" y="0"/>
                  </a:lnTo>
                  <a:lnTo>
                    <a:pt x="75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4"/>
                  </a:moveTo>
                  <a:lnTo>
                    <a:pt x="10" y="233"/>
                  </a:lnTo>
                  <a:lnTo>
                    <a:pt x="0" y="233"/>
                  </a:lnTo>
                  <a:lnTo>
                    <a:pt x="0" y="154"/>
                  </a:lnTo>
                  <a:lnTo>
                    <a:pt x="10" y="154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394"/>
                  </a:lnTo>
                  <a:lnTo>
                    <a:pt x="5" y="389"/>
                  </a:lnTo>
                  <a:lnTo>
                    <a:pt x="61" y="389"/>
                  </a:lnTo>
                  <a:lnTo>
                    <a:pt x="61" y="399"/>
                  </a:lnTo>
                  <a:lnTo>
                    <a:pt x="0" y="399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91" y="389"/>
                  </a:moveTo>
                  <a:lnTo>
                    <a:pt x="170" y="389"/>
                  </a:lnTo>
                  <a:lnTo>
                    <a:pt x="170" y="399"/>
                  </a:lnTo>
                  <a:lnTo>
                    <a:pt x="91" y="399"/>
                  </a:lnTo>
                  <a:lnTo>
                    <a:pt x="91" y="389"/>
                  </a:lnTo>
                  <a:close/>
                  <a:moveTo>
                    <a:pt x="200" y="389"/>
                  </a:moveTo>
                  <a:lnTo>
                    <a:pt x="279" y="389"/>
                  </a:lnTo>
                  <a:lnTo>
                    <a:pt x="279" y="399"/>
                  </a:lnTo>
                  <a:lnTo>
                    <a:pt x="200" y="399"/>
                  </a:lnTo>
                  <a:lnTo>
                    <a:pt x="200" y="389"/>
                  </a:lnTo>
                  <a:close/>
                  <a:moveTo>
                    <a:pt x="309" y="389"/>
                  </a:moveTo>
                  <a:lnTo>
                    <a:pt x="388" y="389"/>
                  </a:lnTo>
                  <a:lnTo>
                    <a:pt x="388" y="399"/>
                  </a:lnTo>
                  <a:lnTo>
                    <a:pt x="309" y="399"/>
                  </a:lnTo>
                  <a:lnTo>
                    <a:pt x="309" y="389"/>
                  </a:lnTo>
                  <a:close/>
                  <a:moveTo>
                    <a:pt x="418" y="389"/>
                  </a:moveTo>
                  <a:lnTo>
                    <a:pt x="497" y="389"/>
                  </a:lnTo>
                  <a:lnTo>
                    <a:pt x="497" y="399"/>
                  </a:lnTo>
                  <a:lnTo>
                    <a:pt x="418" y="399"/>
                  </a:lnTo>
                  <a:lnTo>
                    <a:pt x="418" y="389"/>
                  </a:lnTo>
                  <a:close/>
                  <a:moveTo>
                    <a:pt x="527" y="389"/>
                  </a:moveTo>
                  <a:lnTo>
                    <a:pt x="606" y="389"/>
                  </a:lnTo>
                  <a:lnTo>
                    <a:pt x="606" y="399"/>
                  </a:lnTo>
                  <a:lnTo>
                    <a:pt x="527" y="399"/>
                  </a:lnTo>
                  <a:lnTo>
                    <a:pt x="527" y="389"/>
                  </a:lnTo>
                  <a:close/>
                  <a:moveTo>
                    <a:pt x="636" y="389"/>
                  </a:moveTo>
                  <a:lnTo>
                    <a:pt x="715" y="389"/>
                  </a:lnTo>
                  <a:lnTo>
                    <a:pt x="715" y="399"/>
                  </a:lnTo>
                  <a:lnTo>
                    <a:pt x="636" y="399"/>
                  </a:lnTo>
                  <a:lnTo>
                    <a:pt x="636" y="389"/>
                  </a:lnTo>
                  <a:close/>
                  <a:moveTo>
                    <a:pt x="744" y="389"/>
                  </a:moveTo>
                  <a:lnTo>
                    <a:pt x="824" y="389"/>
                  </a:lnTo>
                  <a:lnTo>
                    <a:pt x="824" y="399"/>
                  </a:lnTo>
                  <a:lnTo>
                    <a:pt x="744" y="399"/>
                  </a:lnTo>
                  <a:lnTo>
                    <a:pt x="744" y="389"/>
                  </a:lnTo>
                  <a:close/>
                  <a:moveTo>
                    <a:pt x="853" y="389"/>
                  </a:moveTo>
                  <a:lnTo>
                    <a:pt x="933" y="389"/>
                  </a:lnTo>
                  <a:lnTo>
                    <a:pt x="933" y="399"/>
                  </a:lnTo>
                  <a:lnTo>
                    <a:pt x="853" y="399"/>
                  </a:lnTo>
                  <a:lnTo>
                    <a:pt x="853" y="389"/>
                  </a:lnTo>
                  <a:close/>
                  <a:moveTo>
                    <a:pt x="962" y="389"/>
                  </a:moveTo>
                  <a:lnTo>
                    <a:pt x="1041" y="389"/>
                  </a:lnTo>
                  <a:lnTo>
                    <a:pt x="1041" y="399"/>
                  </a:lnTo>
                  <a:lnTo>
                    <a:pt x="962" y="399"/>
                  </a:lnTo>
                  <a:lnTo>
                    <a:pt x="962" y="389"/>
                  </a:lnTo>
                  <a:close/>
                  <a:moveTo>
                    <a:pt x="1071" y="389"/>
                  </a:moveTo>
                  <a:lnTo>
                    <a:pt x="1150" y="389"/>
                  </a:lnTo>
                  <a:lnTo>
                    <a:pt x="1150" y="399"/>
                  </a:lnTo>
                  <a:lnTo>
                    <a:pt x="1071" y="399"/>
                  </a:lnTo>
                  <a:lnTo>
                    <a:pt x="1071" y="389"/>
                  </a:lnTo>
                  <a:close/>
                  <a:moveTo>
                    <a:pt x="1180" y="389"/>
                  </a:moveTo>
                  <a:lnTo>
                    <a:pt x="1259" y="389"/>
                  </a:lnTo>
                  <a:lnTo>
                    <a:pt x="1259" y="399"/>
                  </a:lnTo>
                  <a:lnTo>
                    <a:pt x="1180" y="399"/>
                  </a:lnTo>
                  <a:lnTo>
                    <a:pt x="1180" y="389"/>
                  </a:lnTo>
                  <a:close/>
                  <a:moveTo>
                    <a:pt x="1267" y="378"/>
                  </a:moveTo>
                  <a:lnTo>
                    <a:pt x="1267" y="298"/>
                  </a:lnTo>
                  <a:lnTo>
                    <a:pt x="1277" y="298"/>
                  </a:lnTo>
                  <a:lnTo>
                    <a:pt x="1277" y="378"/>
                  </a:lnTo>
                  <a:lnTo>
                    <a:pt x="1267" y="378"/>
                  </a:lnTo>
                  <a:close/>
                  <a:moveTo>
                    <a:pt x="1267" y="269"/>
                  </a:moveTo>
                  <a:lnTo>
                    <a:pt x="1267" y="190"/>
                  </a:lnTo>
                  <a:lnTo>
                    <a:pt x="1277" y="190"/>
                  </a:lnTo>
                  <a:lnTo>
                    <a:pt x="1277" y="269"/>
                  </a:lnTo>
                  <a:lnTo>
                    <a:pt x="1267" y="269"/>
                  </a:lnTo>
                  <a:close/>
                  <a:moveTo>
                    <a:pt x="1267" y="160"/>
                  </a:moveTo>
                  <a:lnTo>
                    <a:pt x="1267" y="81"/>
                  </a:lnTo>
                  <a:lnTo>
                    <a:pt x="1277" y="81"/>
                  </a:lnTo>
                  <a:lnTo>
                    <a:pt x="1277" y="160"/>
                  </a:lnTo>
                  <a:lnTo>
                    <a:pt x="1267" y="160"/>
                  </a:lnTo>
                  <a:close/>
                  <a:moveTo>
                    <a:pt x="1267" y="51"/>
                  </a:moveTo>
                  <a:lnTo>
                    <a:pt x="1267" y="5"/>
                  </a:lnTo>
                  <a:lnTo>
                    <a:pt x="1277" y="5"/>
                  </a:lnTo>
                  <a:lnTo>
                    <a:pt x="1277" y="51"/>
                  </a:lnTo>
                  <a:lnTo>
                    <a:pt x="1267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6240" y="993600"/>
              <a:ext cx="153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Coordina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5880" y="1170000"/>
              <a:ext cx="182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s protocol for pati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760" y="134460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reening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24040" y="1407960"/>
              <a:ext cx="1200240" cy="61920"/>
            </a:xfrm>
            <a:custGeom>
              <a:avLst/>
              <a:gdLst/>
              <a:ahLst/>
              <a:rect l="l" t="t" r="r" b="b"/>
              <a:pathLst>
                <a:path w="7633" h="400">
                  <a:moveTo>
                    <a:pt x="33" y="167"/>
                  </a:moveTo>
                  <a:lnTo>
                    <a:pt x="500" y="167"/>
                  </a:lnTo>
                  <a:cubicBezTo>
                    <a:pt x="519" y="167"/>
                    <a:pt x="533" y="182"/>
                    <a:pt x="533" y="200"/>
                  </a:cubicBezTo>
                  <a:cubicBezTo>
                    <a:pt x="533" y="219"/>
                    <a:pt x="519" y="234"/>
                    <a:pt x="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767" y="167"/>
                  </a:moveTo>
                  <a:lnTo>
                    <a:pt x="1233" y="167"/>
                  </a:lnTo>
                  <a:cubicBezTo>
                    <a:pt x="1252" y="167"/>
                    <a:pt x="1267" y="182"/>
                    <a:pt x="1267" y="200"/>
                  </a:cubicBezTo>
                  <a:cubicBezTo>
                    <a:pt x="1267" y="219"/>
                    <a:pt x="1252" y="234"/>
                    <a:pt x="1233" y="234"/>
                  </a:cubicBezTo>
                  <a:lnTo>
                    <a:pt x="767" y="234"/>
                  </a:lnTo>
                  <a:cubicBezTo>
                    <a:pt x="748" y="234"/>
                    <a:pt x="733" y="219"/>
                    <a:pt x="733" y="200"/>
                  </a:cubicBezTo>
                  <a:cubicBezTo>
                    <a:pt x="733" y="182"/>
                    <a:pt x="748" y="167"/>
                    <a:pt x="767" y="167"/>
                  </a:cubicBezTo>
                  <a:close/>
                  <a:moveTo>
                    <a:pt x="1500" y="167"/>
                  </a:moveTo>
                  <a:lnTo>
                    <a:pt x="1967" y="167"/>
                  </a:lnTo>
                  <a:cubicBezTo>
                    <a:pt x="1985" y="167"/>
                    <a:pt x="2000" y="182"/>
                    <a:pt x="2000" y="200"/>
                  </a:cubicBezTo>
                  <a:cubicBezTo>
                    <a:pt x="2000" y="219"/>
                    <a:pt x="1985" y="234"/>
                    <a:pt x="1967" y="234"/>
                  </a:cubicBezTo>
                  <a:lnTo>
                    <a:pt x="1500" y="234"/>
                  </a:lnTo>
                  <a:cubicBezTo>
                    <a:pt x="1482" y="234"/>
                    <a:pt x="1467" y="219"/>
                    <a:pt x="1467" y="200"/>
                  </a:cubicBezTo>
                  <a:cubicBezTo>
                    <a:pt x="1467" y="182"/>
                    <a:pt x="1482" y="167"/>
                    <a:pt x="1500" y="167"/>
                  </a:cubicBezTo>
                  <a:close/>
                  <a:moveTo>
                    <a:pt x="2233" y="167"/>
                  </a:moveTo>
                  <a:lnTo>
                    <a:pt x="2700" y="167"/>
                  </a:lnTo>
                  <a:cubicBezTo>
                    <a:pt x="2719" y="167"/>
                    <a:pt x="2733" y="182"/>
                    <a:pt x="2733" y="200"/>
                  </a:cubicBezTo>
                  <a:cubicBezTo>
                    <a:pt x="2733" y="219"/>
                    <a:pt x="2719" y="234"/>
                    <a:pt x="2700" y="234"/>
                  </a:cubicBezTo>
                  <a:lnTo>
                    <a:pt x="2233" y="234"/>
                  </a:lnTo>
                  <a:cubicBezTo>
                    <a:pt x="2215" y="234"/>
                    <a:pt x="2200" y="219"/>
                    <a:pt x="2200" y="200"/>
                  </a:cubicBezTo>
                  <a:cubicBezTo>
                    <a:pt x="2200" y="182"/>
                    <a:pt x="2215" y="167"/>
                    <a:pt x="2233" y="167"/>
                  </a:cubicBezTo>
                  <a:close/>
                  <a:moveTo>
                    <a:pt x="2967" y="167"/>
                  </a:moveTo>
                  <a:lnTo>
                    <a:pt x="3433" y="167"/>
                  </a:lnTo>
                  <a:cubicBezTo>
                    <a:pt x="3452" y="167"/>
                    <a:pt x="3467" y="182"/>
                    <a:pt x="3467" y="200"/>
                  </a:cubicBezTo>
                  <a:cubicBezTo>
                    <a:pt x="3467" y="219"/>
                    <a:pt x="3452" y="234"/>
                    <a:pt x="3433" y="234"/>
                  </a:cubicBezTo>
                  <a:lnTo>
                    <a:pt x="2967" y="234"/>
                  </a:lnTo>
                  <a:cubicBezTo>
                    <a:pt x="2948" y="234"/>
                    <a:pt x="2933" y="219"/>
                    <a:pt x="2933" y="200"/>
                  </a:cubicBezTo>
                  <a:cubicBezTo>
                    <a:pt x="2933" y="182"/>
                    <a:pt x="2948" y="167"/>
                    <a:pt x="2967" y="167"/>
                  </a:cubicBezTo>
                  <a:close/>
                  <a:moveTo>
                    <a:pt x="3700" y="167"/>
                  </a:moveTo>
                  <a:lnTo>
                    <a:pt x="4167" y="167"/>
                  </a:lnTo>
                  <a:cubicBezTo>
                    <a:pt x="4185" y="167"/>
                    <a:pt x="4200" y="182"/>
                    <a:pt x="4200" y="200"/>
                  </a:cubicBezTo>
                  <a:cubicBezTo>
                    <a:pt x="4200" y="219"/>
                    <a:pt x="4185" y="234"/>
                    <a:pt x="4167" y="234"/>
                  </a:cubicBezTo>
                  <a:lnTo>
                    <a:pt x="3700" y="234"/>
                  </a:lnTo>
                  <a:cubicBezTo>
                    <a:pt x="3682" y="234"/>
                    <a:pt x="3667" y="219"/>
                    <a:pt x="3667" y="200"/>
                  </a:cubicBezTo>
                  <a:cubicBezTo>
                    <a:pt x="3667" y="182"/>
                    <a:pt x="3682" y="167"/>
                    <a:pt x="3700" y="167"/>
                  </a:cubicBezTo>
                  <a:close/>
                  <a:moveTo>
                    <a:pt x="4433" y="167"/>
                  </a:moveTo>
                  <a:lnTo>
                    <a:pt x="4900" y="167"/>
                  </a:lnTo>
                  <a:cubicBezTo>
                    <a:pt x="4919" y="167"/>
                    <a:pt x="4933" y="182"/>
                    <a:pt x="4933" y="200"/>
                  </a:cubicBezTo>
                  <a:cubicBezTo>
                    <a:pt x="4933" y="219"/>
                    <a:pt x="4919" y="234"/>
                    <a:pt x="4900" y="234"/>
                  </a:cubicBezTo>
                  <a:lnTo>
                    <a:pt x="4433" y="234"/>
                  </a:lnTo>
                  <a:cubicBezTo>
                    <a:pt x="4415" y="234"/>
                    <a:pt x="4400" y="219"/>
                    <a:pt x="4400" y="200"/>
                  </a:cubicBezTo>
                  <a:cubicBezTo>
                    <a:pt x="4400" y="182"/>
                    <a:pt x="4415" y="167"/>
                    <a:pt x="4433" y="167"/>
                  </a:cubicBezTo>
                  <a:close/>
                  <a:moveTo>
                    <a:pt x="5167" y="167"/>
                  </a:moveTo>
                  <a:lnTo>
                    <a:pt x="5633" y="167"/>
                  </a:lnTo>
                  <a:cubicBezTo>
                    <a:pt x="5652" y="167"/>
                    <a:pt x="5667" y="182"/>
                    <a:pt x="5667" y="200"/>
                  </a:cubicBezTo>
                  <a:cubicBezTo>
                    <a:pt x="5667" y="219"/>
                    <a:pt x="5652" y="234"/>
                    <a:pt x="5633" y="234"/>
                  </a:cubicBezTo>
                  <a:lnTo>
                    <a:pt x="5167" y="234"/>
                  </a:lnTo>
                  <a:cubicBezTo>
                    <a:pt x="5148" y="234"/>
                    <a:pt x="5133" y="219"/>
                    <a:pt x="5133" y="200"/>
                  </a:cubicBezTo>
                  <a:cubicBezTo>
                    <a:pt x="5133" y="182"/>
                    <a:pt x="5148" y="167"/>
                    <a:pt x="5167" y="167"/>
                  </a:cubicBezTo>
                  <a:close/>
                  <a:moveTo>
                    <a:pt x="5900" y="167"/>
                  </a:moveTo>
                  <a:lnTo>
                    <a:pt x="6367" y="167"/>
                  </a:lnTo>
                  <a:cubicBezTo>
                    <a:pt x="6385" y="167"/>
                    <a:pt x="6400" y="182"/>
                    <a:pt x="6400" y="200"/>
                  </a:cubicBezTo>
                  <a:cubicBezTo>
                    <a:pt x="6400" y="219"/>
                    <a:pt x="6385" y="234"/>
                    <a:pt x="6367" y="234"/>
                  </a:cubicBezTo>
                  <a:lnTo>
                    <a:pt x="5900" y="234"/>
                  </a:lnTo>
                  <a:cubicBezTo>
                    <a:pt x="5882" y="234"/>
                    <a:pt x="5867" y="219"/>
                    <a:pt x="5867" y="200"/>
                  </a:cubicBezTo>
                  <a:cubicBezTo>
                    <a:pt x="5867" y="182"/>
                    <a:pt x="5882" y="167"/>
                    <a:pt x="5900" y="167"/>
                  </a:cubicBezTo>
                  <a:close/>
                  <a:moveTo>
                    <a:pt x="6633" y="167"/>
                  </a:moveTo>
                  <a:lnTo>
                    <a:pt x="7100" y="167"/>
                  </a:lnTo>
                  <a:cubicBezTo>
                    <a:pt x="7119" y="167"/>
                    <a:pt x="7133" y="182"/>
                    <a:pt x="7133" y="200"/>
                  </a:cubicBezTo>
                  <a:cubicBezTo>
                    <a:pt x="7133" y="219"/>
                    <a:pt x="7119" y="234"/>
                    <a:pt x="7100" y="234"/>
                  </a:cubicBezTo>
                  <a:lnTo>
                    <a:pt x="6633" y="234"/>
                  </a:lnTo>
                  <a:cubicBezTo>
                    <a:pt x="6615" y="234"/>
                    <a:pt x="6600" y="219"/>
                    <a:pt x="6600" y="200"/>
                  </a:cubicBezTo>
                  <a:cubicBezTo>
                    <a:pt x="6600" y="182"/>
                    <a:pt x="6615" y="167"/>
                    <a:pt x="6633" y="167"/>
                  </a:cubicBezTo>
                  <a:close/>
                  <a:moveTo>
                    <a:pt x="7233" y="0"/>
                  </a:moveTo>
                  <a:lnTo>
                    <a:pt x="7633" y="200"/>
                  </a:lnTo>
                  <a:lnTo>
                    <a:pt x="7233" y="400"/>
                  </a:lnTo>
                  <a:lnTo>
                    <a:pt x="723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3200" y="3062160"/>
              <a:ext cx="1334880" cy="1684440"/>
            </a:xfrm>
            <a:custGeom>
              <a:avLst/>
              <a:gdLst/>
              <a:ahLst/>
              <a:rect l="l" t="t" r="r" b="b"/>
              <a:pathLst>
                <a:path w="841" h="1061">
                  <a:moveTo>
                    <a:pt x="836" y="10"/>
                  </a:moveTo>
                  <a:lnTo>
                    <a:pt x="757" y="10"/>
                  </a:lnTo>
                  <a:lnTo>
                    <a:pt x="757" y="0"/>
                  </a:lnTo>
                  <a:lnTo>
                    <a:pt x="836" y="0"/>
                  </a:lnTo>
                  <a:lnTo>
                    <a:pt x="836" y="10"/>
                  </a:lnTo>
                  <a:close/>
                  <a:moveTo>
                    <a:pt x="728" y="10"/>
                  </a:moveTo>
                  <a:lnTo>
                    <a:pt x="648" y="10"/>
                  </a:lnTo>
                  <a:lnTo>
                    <a:pt x="648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39" y="1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4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3"/>
                  </a:moveTo>
                  <a:lnTo>
                    <a:pt x="10" y="232"/>
                  </a:lnTo>
                  <a:lnTo>
                    <a:pt x="0" y="232"/>
                  </a:lnTo>
                  <a:lnTo>
                    <a:pt x="0" y="153"/>
                  </a:lnTo>
                  <a:lnTo>
                    <a:pt x="10" y="153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450"/>
                  </a:lnTo>
                  <a:lnTo>
                    <a:pt x="0" y="450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10" y="479"/>
                  </a:moveTo>
                  <a:lnTo>
                    <a:pt x="10" y="558"/>
                  </a:lnTo>
                  <a:lnTo>
                    <a:pt x="0" y="558"/>
                  </a:lnTo>
                  <a:lnTo>
                    <a:pt x="0" y="479"/>
                  </a:lnTo>
                  <a:lnTo>
                    <a:pt x="10" y="479"/>
                  </a:lnTo>
                  <a:close/>
                  <a:moveTo>
                    <a:pt x="10" y="588"/>
                  </a:moveTo>
                  <a:lnTo>
                    <a:pt x="10" y="667"/>
                  </a:lnTo>
                  <a:lnTo>
                    <a:pt x="0" y="667"/>
                  </a:lnTo>
                  <a:lnTo>
                    <a:pt x="0" y="588"/>
                  </a:lnTo>
                  <a:lnTo>
                    <a:pt x="10" y="588"/>
                  </a:lnTo>
                  <a:close/>
                  <a:moveTo>
                    <a:pt x="10" y="697"/>
                  </a:moveTo>
                  <a:lnTo>
                    <a:pt x="10" y="776"/>
                  </a:lnTo>
                  <a:lnTo>
                    <a:pt x="0" y="776"/>
                  </a:lnTo>
                  <a:lnTo>
                    <a:pt x="0" y="697"/>
                  </a:lnTo>
                  <a:lnTo>
                    <a:pt x="10" y="697"/>
                  </a:lnTo>
                  <a:close/>
                  <a:moveTo>
                    <a:pt x="10" y="805"/>
                  </a:moveTo>
                  <a:lnTo>
                    <a:pt x="10" y="885"/>
                  </a:lnTo>
                  <a:lnTo>
                    <a:pt x="0" y="885"/>
                  </a:lnTo>
                  <a:lnTo>
                    <a:pt x="0" y="805"/>
                  </a:lnTo>
                  <a:lnTo>
                    <a:pt x="10" y="805"/>
                  </a:lnTo>
                  <a:close/>
                  <a:moveTo>
                    <a:pt x="10" y="914"/>
                  </a:moveTo>
                  <a:lnTo>
                    <a:pt x="10" y="993"/>
                  </a:lnTo>
                  <a:lnTo>
                    <a:pt x="0" y="993"/>
                  </a:lnTo>
                  <a:lnTo>
                    <a:pt x="0" y="914"/>
                  </a:lnTo>
                  <a:lnTo>
                    <a:pt x="10" y="914"/>
                  </a:lnTo>
                  <a:close/>
                  <a:moveTo>
                    <a:pt x="10" y="1023"/>
                  </a:moveTo>
                  <a:lnTo>
                    <a:pt x="10" y="1056"/>
                  </a:lnTo>
                  <a:lnTo>
                    <a:pt x="5" y="1051"/>
                  </a:lnTo>
                  <a:lnTo>
                    <a:pt x="51" y="1051"/>
                  </a:lnTo>
                  <a:lnTo>
                    <a:pt x="51" y="1061"/>
                  </a:lnTo>
                  <a:lnTo>
                    <a:pt x="0" y="1061"/>
                  </a:lnTo>
                  <a:lnTo>
                    <a:pt x="0" y="1023"/>
                  </a:lnTo>
                  <a:lnTo>
                    <a:pt x="10" y="1023"/>
                  </a:lnTo>
                  <a:close/>
                  <a:moveTo>
                    <a:pt x="81" y="1051"/>
                  </a:moveTo>
                  <a:lnTo>
                    <a:pt x="160" y="1051"/>
                  </a:lnTo>
                  <a:lnTo>
                    <a:pt x="160" y="1061"/>
                  </a:lnTo>
                  <a:lnTo>
                    <a:pt x="81" y="1061"/>
                  </a:lnTo>
                  <a:lnTo>
                    <a:pt x="81" y="1051"/>
                  </a:lnTo>
                  <a:close/>
                  <a:moveTo>
                    <a:pt x="190" y="1051"/>
                  </a:moveTo>
                  <a:lnTo>
                    <a:pt x="269" y="1051"/>
                  </a:lnTo>
                  <a:lnTo>
                    <a:pt x="269" y="1061"/>
                  </a:lnTo>
                  <a:lnTo>
                    <a:pt x="190" y="1061"/>
                  </a:lnTo>
                  <a:lnTo>
                    <a:pt x="190" y="1051"/>
                  </a:lnTo>
                  <a:close/>
                  <a:moveTo>
                    <a:pt x="299" y="1051"/>
                  </a:moveTo>
                  <a:lnTo>
                    <a:pt x="378" y="1051"/>
                  </a:lnTo>
                  <a:lnTo>
                    <a:pt x="378" y="1061"/>
                  </a:lnTo>
                  <a:lnTo>
                    <a:pt x="299" y="1061"/>
                  </a:lnTo>
                  <a:lnTo>
                    <a:pt x="299" y="1051"/>
                  </a:lnTo>
                  <a:close/>
                  <a:moveTo>
                    <a:pt x="407" y="1051"/>
                  </a:moveTo>
                  <a:lnTo>
                    <a:pt x="487" y="1051"/>
                  </a:lnTo>
                  <a:lnTo>
                    <a:pt x="487" y="1061"/>
                  </a:lnTo>
                  <a:lnTo>
                    <a:pt x="407" y="1061"/>
                  </a:lnTo>
                  <a:lnTo>
                    <a:pt x="407" y="1051"/>
                  </a:lnTo>
                  <a:close/>
                  <a:moveTo>
                    <a:pt x="516" y="1051"/>
                  </a:moveTo>
                  <a:lnTo>
                    <a:pt x="596" y="1051"/>
                  </a:lnTo>
                  <a:lnTo>
                    <a:pt x="596" y="1061"/>
                  </a:lnTo>
                  <a:lnTo>
                    <a:pt x="516" y="1061"/>
                  </a:lnTo>
                  <a:lnTo>
                    <a:pt x="516" y="1051"/>
                  </a:lnTo>
                  <a:close/>
                  <a:moveTo>
                    <a:pt x="625" y="1051"/>
                  </a:moveTo>
                  <a:lnTo>
                    <a:pt x="704" y="1051"/>
                  </a:lnTo>
                  <a:lnTo>
                    <a:pt x="704" y="1061"/>
                  </a:lnTo>
                  <a:lnTo>
                    <a:pt x="625" y="1061"/>
                  </a:lnTo>
                  <a:lnTo>
                    <a:pt x="625" y="1051"/>
                  </a:lnTo>
                  <a:close/>
                  <a:moveTo>
                    <a:pt x="734" y="1051"/>
                  </a:moveTo>
                  <a:lnTo>
                    <a:pt x="813" y="1051"/>
                  </a:lnTo>
                  <a:lnTo>
                    <a:pt x="813" y="1061"/>
                  </a:lnTo>
                  <a:lnTo>
                    <a:pt x="734" y="1061"/>
                  </a:lnTo>
                  <a:lnTo>
                    <a:pt x="734" y="1051"/>
                  </a:lnTo>
                  <a:close/>
                  <a:moveTo>
                    <a:pt x="831" y="1049"/>
                  </a:moveTo>
                  <a:lnTo>
                    <a:pt x="831" y="970"/>
                  </a:lnTo>
                  <a:lnTo>
                    <a:pt x="841" y="970"/>
                  </a:lnTo>
                  <a:lnTo>
                    <a:pt x="841" y="1049"/>
                  </a:lnTo>
                  <a:lnTo>
                    <a:pt x="831" y="1049"/>
                  </a:lnTo>
                  <a:close/>
                  <a:moveTo>
                    <a:pt x="831" y="941"/>
                  </a:moveTo>
                  <a:lnTo>
                    <a:pt x="831" y="862"/>
                  </a:lnTo>
                  <a:lnTo>
                    <a:pt x="841" y="862"/>
                  </a:lnTo>
                  <a:lnTo>
                    <a:pt x="841" y="941"/>
                  </a:lnTo>
                  <a:lnTo>
                    <a:pt x="831" y="941"/>
                  </a:lnTo>
                  <a:close/>
                  <a:moveTo>
                    <a:pt x="831" y="832"/>
                  </a:moveTo>
                  <a:lnTo>
                    <a:pt x="831" y="753"/>
                  </a:lnTo>
                  <a:lnTo>
                    <a:pt x="841" y="753"/>
                  </a:lnTo>
                  <a:lnTo>
                    <a:pt x="841" y="832"/>
                  </a:lnTo>
                  <a:lnTo>
                    <a:pt x="831" y="832"/>
                  </a:lnTo>
                  <a:close/>
                  <a:moveTo>
                    <a:pt x="831" y="723"/>
                  </a:moveTo>
                  <a:lnTo>
                    <a:pt x="831" y="644"/>
                  </a:lnTo>
                  <a:lnTo>
                    <a:pt x="841" y="644"/>
                  </a:lnTo>
                  <a:lnTo>
                    <a:pt x="841" y="723"/>
                  </a:lnTo>
                  <a:lnTo>
                    <a:pt x="831" y="723"/>
                  </a:lnTo>
                  <a:close/>
                  <a:moveTo>
                    <a:pt x="831" y="614"/>
                  </a:moveTo>
                  <a:lnTo>
                    <a:pt x="831" y="535"/>
                  </a:lnTo>
                  <a:lnTo>
                    <a:pt x="841" y="535"/>
                  </a:lnTo>
                  <a:lnTo>
                    <a:pt x="841" y="614"/>
                  </a:lnTo>
                  <a:lnTo>
                    <a:pt x="831" y="614"/>
                  </a:lnTo>
                  <a:close/>
                  <a:moveTo>
                    <a:pt x="831" y="506"/>
                  </a:moveTo>
                  <a:lnTo>
                    <a:pt x="831" y="427"/>
                  </a:lnTo>
                  <a:lnTo>
                    <a:pt x="841" y="427"/>
                  </a:lnTo>
                  <a:lnTo>
                    <a:pt x="841" y="506"/>
                  </a:lnTo>
                  <a:lnTo>
                    <a:pt x="831" y="506"/>
                  </a:lnTo>
                  <a:close/>
                  <a:moveTo>
                    <a:pt x="831" y="397"/>
                  </a:moveTo>
                  <a:lnTo>
                    <a:pt x="831" y="318"/>
                  </a:lnTo>
                  <a:lnTo>
                    <a:pt x="841" y="318"/>
                  </a:lnTo>
                  <a:lnTo>
                    <a:pt x="841" y="397"/>
                  </a:lnTo>
                  <a:lnTo>
                    <a:pt x="831" y="397"/>
                  </a:lnTo>
                  <a:close/>
                  <a:moveTo>
                    <a:pt x="831" y="288"/>
                  </a:moveTo>
                  <a:lnTo>
                    <a:pt x="831" y="209"/>
                  </a:lnTo>
                  <a:lnTo>
                    <a:pt x="841" y="209"/>
                  </a:lnTo>
                  <a:lnTo>
                    <a:pt x="841" y="288"/>
                  </a:lnTo>
                  <a:lnTo>
                    <a:pt x="831" y="288"/>
                  </a:lnTo>
                  <a:close/>
                  <a:moveTo>
                    <a:pt x="831" y="180"/>
                  </a:moveTo>
                  <a:lnTo>
                    <a:pt x="831" y="101"/>
                  </a:lnTo>
                  <a:lnTo>
                    <a:pt x="841" y="101"/>
                  </a:lnTo>
                  <a:lnTo>
                    <a:pt x="841" y="180"/>
                  </a:lnTo>
                  <a:lnTo>
                    <a:pt x="831" y="180"/>
                  </a:lnTo>
                  <a:close/>
                  <a:moveTo>
                    <a:pt x="831" y="71"/>
                  </a:moveTo>
                  <a:lnTo>
                    <a:pt x="831" y="5"/>
                  </a:lnTo>
                  <a:lnTo>
                    <a:pt x="841" y="5"/>
                  </a:lnTo>
                  <a:lnTo>
                    <a:pt x="841" y="71"/>
                  </a:lnTo>
                  <a:lnTo>
                    <a:pt x="831" y="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480" y="312732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1760" y="330372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ordina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3560" y="34783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ews list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1040" y="3651120"/>
              <a:ext cx="87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tients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2480" y="382752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s whi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9240" y="4003560"/>
              <a:ext cx="122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es to approa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120" y="417816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person f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600" y="435456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3560" y="452736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ruit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46440" y="1873080"/>
              <a:ext cx="63720" cy="444600"/>
            </a:xfrm>
            <a:custGeom>
              <a:avLst/>
              <a:gdLst/>
              <a:ahLst/>
              <a:rect l="l" t="t" r="r" b="b"/>
              <a:pathLst>
                <a:path w="400" h="2833">
                  <a:moveTo>
                    <a:pt x="234" y="33"/>
                  </a:moveTo>
                  <a:lnTo>
                    <a:pt x="234" y="2500"/>
                  </a:lnTo>
                  <a:cubicBezTo>
                    <a:pt x="234" y="2519"/>
                    <a:pt x="219" y="2533"/>
                    <a:pt x="200" y="2533"/>
                  </a:cubicBezTo>
                  <a:cubicBezTo>
                    <a:pt x="182" y="2533"/>
                    <a:pt x="167" y="2519"/>
                    <a:pt x="167" y="25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2433"/>
                  </a:moveTo>
                  <a:lnTo>
                    <a:pt x="200" y="2833"/>
                  </a:lnTo>
                  <a:lnTo>
                    <a:pt x="0" y="2433"/>
                  </a:lnTo>
                  <a:lnTo>
                    <a:pt x="400" y="24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00160" y="4419720"/>
              <a:ext cx="503280" cy="61920"/>
            </a:xfrm>
            <a:custGeom>
              <a:avLst/>
              <a:gdLst/>
              <a:ahLst/>
              <a:rect l="l" t="t" r="r" b="b"/>
              <a:pathLst>
                <a:path w="317" h="39">
                  <a:moveTo>
                    <a:pt x="317" y="24"/>
                  </a:moveTo>
                  <a:lnTo>
                    <a:pt x="251" y="24"/>
                  </a:lnTo>
                  <a:lnTo>
                    <a:pt x="251" y="16"/>
                  </a:lnTo>
                  <a:lnTo>
                    <a:pt x="317" y="16"/>
                  </a:lnTo>
                  <a:lnTo>
                    <a:pt x="317" y="24"/>
                  </a:lnTo>
                  <a:close/>
                  <a:moveTo>
                    <a:pt x="227" y="24"/>
                  </a:moveTo>
                  <a:lnTo>
                    <a:pt x="161" y="24"/>
                  </a:lnTo>
                  <a:lnTo>
                    <a:pt x="161" y="16"/>
                  </a:lnTo>
                  <a:lnTo>
                    <a:pt x="227" y="16"/>
                  </a:lnTo>
                  <a:lnTo>
                    <a:pt x="227" y="24"/>
                  </a:lnTo>
                  <a:close/>
                  <a:moveTo>
                    <a:pt x="136" y="24"/>
                  </a:moveTo>
                  <a:lnTo>
                    <a:pt x="70" y="24"/>
                  </a:lnTo>
                  <a:lnTo>
                    <a:pt x="70" y="16"/>
                  </a:lnTo>
                  <a:lnTo>
                    <a:pt x="136" y="16"/>
                  </a:lnTo>
                  <a:lnTo>
                    <a:pt x="136" y="24"/>
                  </a:lnTo>
                  <a:close/>
                  <a:moveTo>
                    <a:pt x="45" y="24"/>
                  </a:moveTo>
                  <a:lnTo>
                    <a:pt x="33" y="24"/>
                  </a:lnTo>
                  <a:lnTo>
                    <a:pt x="33" y="16"/>
                  </a:lnTo>
                  <a:lnTo>
                    <a:pt x="45" y="16"/>
                  </a:lnTo>
                  <a:lnTo>
                    <a:pt x="45" y="24"/>
                  </a:lnTo>
                  <a:close/>
                  <a:moveTo>
                    <a:pt x="40" y="39"/>
                  </a:moveTo>
                  <a:lnTo>
                    <a:pt x="0" y="20"/>
                  </a:lnTo>
                  <a:lnTo>
                    <a:pt x="40" y="0"/>
                  </a:lnTo>
                  <a:lnTo>
                    <a:pt x="40" y="3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10160" y="3505320"/>
              <a:ext cx="61920" cy="569880"/>
            </a:xfrm>
            <a:custGeom>
              <a:avLst/>
              <a:gdLst/>
              <a:ahLst/>
              <a:rect l="l" t="t" r="r" b="b"/>
              <a:pathLst>
                <a:path w="400" h="3633">
                  <a:moveTo>
                    <a:pt x="234" y="33"/>
                  </a:moveTo>
                  <a:lnTo>
                    <a:pt x="234" y="3300"/>
                  </a:lnTo>
                  <a:cubicBezTo>
                    <a:pt x="234" y="3319"/>
                    <a:pt x="219" y="3333"/>
                    <a:pt x="200" y="3333"/>
                  </a:cubicBezTo>
                  <a:cubicBezTo>
                    <a:pt x="182" y="3333"/>
                    <a:pt x="167" y="3319"/>
                    <a:pt x="167" y="33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3233"/>
                  </a:moveTo>
                  <a:lnTo>
                    <a:pt x="200" y="3633"/>
                  </a:lnTo>
                  <a:lnTo>
                    <a:pt x="0" y="3233"/>
                  </a:lnTo>
                  <a:lnTo>
                    <a:pt x="400" y="32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70120" y="1690560"/>
              <a:ext cx="250560" cy="1254240"/>
            </a:xfrm>
            <a:custGeom>
              <a:avLst/>
              <a:gdLst/>
              <a:ahLst/>
              <a:rect l="l" t="t" r="r" b="b"/>
              <a:pathLst>
                <a:path w="158" h="790">
                  <a:moveTo>
                    <a:pt x="0" y="592"/>
                  </a:moveTo>
                  <a:lnTo>
                    <a:pt x="39" y="592"/>
                  </a:lnTo>
                  <a:lnTo>
                    <a:pt x="39" y="0"/>
                  </a:lnTo>
                  <a:lnTo>
                    <a:pt x="118" y="0"/>
                  </a:lnTo>
                  <a:lnTo>
                    <a:pt x="118" y="592"/>
                  </a:lnTo>
                  <a:lnTo>
                    <a:pt x="158" y="592"/>
                  </a:lnTo>
                  <a:lnTo>
                    <a:pt x="79" y="790"/>
                  </a:lnTo>
                  <a:lnTo>
                    <a:pt x="0" y="592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3200" y="5357880"/>
              <a:ext cx="1334880" cy="633240"/>
            </a:xfrm>
            <a:custGeom>
              <a:avLst/>
              <a:gdLst/>
              <a:ahLst/>
              <a:rect l="l" t="t" r="r" b="b"/>
              <a:pathLst>
                <a:path w="841" h="399">
                  <a:moveTo>
                    <a:pt x="836" y="10"/>
                  </a:moveTo>
                  <a:lnTo>
                    <a:pt x="757" y="10"/>
                  </a:lnTo>
                  <a:lnTo>
                    <a:pt x="757" y="0"/>
                  </a:lnTo>
                  <a:lnTo>
                    <a:pt x="836" y="0"/>
                  </a:lnTo>
                  <a:lnTo>
                    <a:pt x="836" y="10"/>
                  </a:lnTo>
                  <a:close/>
                  <a:moveTo>
                    <a:pt x="728" y="10"/>
                  </a:moveTo>
                  <a:lnTo>
                    <a:pt x="648" y="10"/>
                  </a:lnTo>
                  <a:lnTo>
                    <a:pt x="648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39" y="1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4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3"/>
                  </a:moveTo>
                  <a:lnTo>
                    <a:pt x="10" y="232"/>
                  </a:lnTo>
                  <a:lnTo>
                    <a:pt x="0" y="232"/>
                  </a:lnTo>
                  <a:lnTo>
                    <a:pt x="0" y="153"/>
                  </a:lnTo>
                  <a:lnTo>
                    <a:pt x="10" y="153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394"/>
                  </a:lnTo>
                  <a:lnTo>
                    <a:pt x="5" y="389"/>
                  </a:lnTo>
                  <a:lnTo>
                    <a:pt x="61" y="389"/>
                  </a:lnTo>
                  <a:lnTo>
                    <a:pt x="61" y="399"/>
                  </a:lnTo>
                  <a:lnTo>
                    <a:pt x="0" y="399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91" y="389"/>
                  </a:moveTo>
                  <a:lnTo>
                    <a:pt x="170" y="389"/>
                  </a:lnTo>
                  <a:lnTo>
                    <a:pt x="170" y="399"/>
                  </a:lnTo>
                  <a:lnTo>
                    <a:pt x="91" y="399"/>
                  </a:lnTo>
                  <a:lnTo>
                    <a:pt x="91" y="389"/>
                  </a:lnTo>
                  <a:close/>
                  <a:moveTo>
                    <a:pt x="200" y="389"/>
                  </a:moveTo>
                  <a:lnTo>
                    <a:pt x="279" y="389"/>
                  </a:lnTo>
                  <a:lnTo>
                    <a:pt x="279" y="399"/>
                  </a:lnTo>
                  <a:lnTo>
                    <a:pt x="200" y="399"/>
                  </a:lnTo>
                  <a:lnTo>
                    <a:pt x="200" y="389"/>
                  </a:lnTo>
                  <a:close/>
                  <a:moveTo>
                    <a:pt x="309" y="389"/>
                  </a:moveTo>
                  <a:lnTo>
                    <a:pt x="388" y="389"/>
                  </a:lnTo>
                  <a:lnTo>
                    <a:pt x="388" y="399"/>
                  </a:lnTo>
                  <a:lnTo>
                    <a:pt x="309" y="399"/>
                  </a:lnTo>
                  <a:lnTo>
                    <a:pt x="309" y="389"/>
                  </a:lnTo>
                  <a:close/>
                  <a:moveTo>
                    <a:pt x="417" y="389"/>
                  </a:moveTo>
                  <a:lnTo>
                    <a:pt x="497" y="389"/>
                  </a:lnTo>
                  <a:lnTo>
                    <a:pt x="497" y="399"/>
                  </a:lnTo>
                  <a:lnTo>
                    <a:pt x="417" y="399"/>
                  </a:lnTo>
                  <a:lnTo>
                    <a:pt x="417" y="389"/>
                  </a:lnTo>
                  <a:close/>
                  <a:moveTo>
                    <a:pt x="526" y="389"/>
                  </a:moveTo>
                  <a:lnTo>
                    <a:pt x="606" y="389"/>
                  </a:lnTo>
                  <a:lnTo>
                    <a:pt x="606" y="399"/>
                  </a:lnTo>
                  <a:lnTo>
                    <a:pt x="526" y="399"/>
                  </a:lnTo>
                  <a:lnTo>
                    <a:pt x="526" y="389"/>
                  </a:lnTo>
                  <a:close/>
                  <a:moveTo>
                    <a:pt x="635" y="389"/>
                  </a:moveTo>
                  <a:lnTo>
                    <a:pt x="714" y="389"/>
                  </a:lnTo>
                  <a:lnTo>
                    <a:pt x="714" y="399"/>
                  </a:lnTo>
                  <a:lnTo>
                    <a:pt x="635" y="399"/>
                  </a:lnTo>
                  <a:lnTo>
                    <a:pt x="635" y="389"/>
                  </a:lnTo>
                  <a:close/>
                  <a:moveTo>
                    <a:pt x="744" y="389"/>
                  </a:moveTo>
                  <a:lnTo>
                    <a:pt x="823" y="389"/>
                  </a:lnTo>
                  <a:lnTo>
                    <a:pt x="823" y="399"/>
                  </a:lnTo>
                  <a:lnTo>
                    <a:pt x="744" y="399"/>
                  </a:lnTo>
                  <a:lnTo>
                    <a:pt x="744" y="389"/>
                  </a:lnTo>
                  <a:close/>
                  <a:moveTo>
                    <a:pt x="831" y="377"/>
                  </a:moveTo>
                  <a:lnTo>
                    <a:pt x="831" y="298"/>
                  </a:lnTo>
                  <a:lnTo>
                    <a:pt x="841" y="298"/>
                  </a:lnTo>
                  <a:lnTo>
                    <a:pt x="841" y="377"/>
                  </a:lnTo>
                  <a:lnTo>
                    <a:pt x="831" y="377"/>
                  </a:lnTo>
                  <a:close/>
                  <a:moveTo>
                    <a:pt x="831" y="269"/>
                  </a:moveTo>
                  <a:lnTo>
                    <a:pt x="831" y="189"/>
                  </a:lnTo>
                  <a:lnTo>
                    <a:pt x="841" y="189"/>
                  </a:lnTo>
                  <a:lnTo>
                    <a:pt x="841" y="269"/>
                  </a:lnTo>
                  <a:lnTo>
                    <a:pt x="831" y="269"/>
                  </a:lnTo>
                  <a:close/>
                  <a:moveTo>
                    <a:pt x="831" y="160"/>
                  </a:moveTo>
                  <a:lnTo>
                    <a:pt x="831" y="81"/>
                  </a:lnTo>
                  <a:lnTo>
                    <a:pt x="841" y="81"/>
                  </a:lnTo>
                  <a:lnTo>
                    <a:pt x="841" y="160"/>
                  </a:lnTo>
                  <a:lnTo>
                    <a:pt x="831" y="160"/>
                  </a:lnTo>
                  <a:close/>
                  <a:moveTo>
                    <a:pt x="831" y="51"/>
                  </a:moveTo>
                  <a:lnTo>
                    <a:pt x="831" y="5"/>
                  </a:lnTo>
                  <a:lnTo>
                    <a:pt x="841" y="5"/>
                  </a:lnTo>
                  <a:lnTo>
                    <a:pt x="841" y="51"/>
                  </a:lnTo>
                  <a:lnTo>
                    <a:pt x="831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200" y="542304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n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9600" y="5597640"/>
              <a:ext cx="105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2840" y="577224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rui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56680" y="7351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6900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50000" y="7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58080" y="7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0560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66720" y="6264360"/>
            <a:ext cx="584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Focus of Next Talk by Rachel Riche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Role of Semantic Web Technologies: Example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 Cont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, Generalized and Extensibl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able Open Source Models of Clinic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 Exchange and Interoperabil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use and alignment of independently developed Indust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Ways of saying the same 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putable Protocol Specific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 and Unambiguous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 Retriev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identify relevant patients in the absence of explicit data about a clinical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Precise, Generalized and Extensible Specification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5720" y="1066680"/>
            <a:ext cx="703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ystolic Blood Pressure measurement is a pressure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has a value from 0 to 220 and units are 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15720" y="1828800"/>
            <a:ext cx="47602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stolicBloodPressure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linical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key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“SnomedCodeForSystolicB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gnitud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float[&gt;= 0.0, &lt;= 220.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units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6080" y="3886200"/>
            <a:ext cx="70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tting Systolic Blood Pressure Measurement is a systolic bl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 measurement taken when a patient is s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67640" y="4876920"/>
            <a:ext cx="45514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ittingSystolicBloodPressure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SystolicBloodPressure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bodyPosi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S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rtners Information Systems</cp:lastModifiedBy>
  <dcterms:modified xsi:type="dcterms:W3CDTF">2007-11-08T13:41:16Z</dcterms:modified>
  <cp:revision>3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